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1F9-3C30-4B3F-BEE4-183D7C7B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83F-840C-44B3-B8DB-A02BEBA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3FE-5227-4998-9297-5C39041E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3C5-96CC-4CD3-829E-374D2433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CA2-7EE9-4DB9-B0D3-FEA98007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83A-E4EE-45D3-B2C5-E91CDA2E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7CE-290F-4826-AAD2-D9C8022A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6D5-F674-4532-B2DA-DC9128D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579-B87E-4382-B667-061B7571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A1A-92E4-4B3E-BF00-F0996F7B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EC3-C012-4FD2-9DD3-0886690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17F-C404-423A-803A-74B2BE0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6248160"/>
            <a:ext cx="266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ered b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Department of B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22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EE9C-0611-4A06-A9F0-F9C536A726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House Committee</a:t>
            </a:r>
            <a:br>
              <a:rPr sz="3600"/>
            </a:b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on </a:t>
            </a:r>
            <a:br>
              <a:rPr sz="3600"/>
            </a:b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Business and Industry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19160"/>
            <a:ext cx="6477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House Bill 2002 - Implement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osed Account Not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Department of Ba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il 22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Information Used by C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verification companies use the account number and routing number provided through CANS to decline checks. They do not decline based on a drivers license numb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merchant verifies a check by providing a drivers license numb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ount number, the check verification company will use both to search their databas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heck can be declined for many reasons, including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count reported through C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t associated with the driver’s license number pres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ive sc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fraudulent check is presented with the name, driver's license number, and account number all from different persons – what submitted information triggers the check rejection at the merchant le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arch of the CVEs databases using only the drivers license number and bank routing/account number provided by the merchant is conducted. If either item matches to a returned item, or raise flags in a CVEs risk system, the item may be decl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300-1C94-4B3E-90AC-CAA53A1328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omised Accounts Re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09680" y="1600200"/>
          <a:ext cx="4876920" cy="2314440"/>
        </p:xfrm>
        <a:graphic>
          <a:graphicData uri="http://schemas.openxmlformats.org/drawingml/2006/table">
            <a:tbl>
              <a:tblPr/>
              <a:tblGrid>
                <a:gridCol w="2667240"/>
                <a:gridCol w="2209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ty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s Repor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as State-Chartered 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Savings 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Credit Un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Credit Un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828800" y="4267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NS data for the period of March 1, 2008 to April 11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839-1928-4BB9-89F7-85B4A765FC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utory Mand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nd Commerce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financial institutions to notify check verification companies of closed accounts if a customer gives proper notice and they are a victim of an offense under Penal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5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s Finance Commission to adopt rules to enable financial institutions or check verification entities to comply with requirements of Business and Commerce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.5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s Commissioner to charge check verification entities a fee not to exceed $100 to register with Texas Department of Ba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ommissioner to establish an electronic notification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D17-BF66-460C-A491-7FC07007B7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Administrative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ommission adopted Chapter 35 of Texas Administrative Code on December 17,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or the registration of check verification 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procedures for a customer to have their financial institution report a compromised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the information needed in a sworn statement and authorizatio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2D1-ECBF-4C1A-838B-4CAC975EE8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Closed Account Notification System - 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o allow financial institutions to send information to Check Verification Entities (CVEs) when requested by a customer who is a victim of an offense under §32.51, Penal Co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include financial institutions.  A financial institution includes a bank, savings association, savings bank, or credit union maintaining an office, branch, or agency office in the State of Tex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uses a secure website to protect the information during transmi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ata file is securely transferred to the check verification entities using FTPS or SF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artment’s database only maintains truncated information for financial institutions to have an audit tr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ECA-15A5-47E0-9F04-A7F59AD0BE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Closed Account Notification System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603-B19C-40E5-811B-74760A6CA0D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artment Initia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 in Winter Edition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as Bank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s announcing program to state-chartered banks issued in Febr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s to federal and state regulators with financial institutions operating in Texas issued in Febr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of Department web site dedicated to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rn Statement and Authorizatio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an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ly asked questions for banks and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252-A3CB-460A-85FC-2518FDFFE0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S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Credit Union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on their web site for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Savings and Mortgage 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on their web site for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made with financial institutions who had not en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de associations for banks and credit unions have publicized the CANS system through various medias, including web site links, magazine and newsletter articles, and mass email notifications to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9D5-BE76-486E-8642-DC015FECAB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Verification 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ompanies have regi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ayment Protection Services, Inc. (St. Petersburg, F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egy Check Services, Inc. (St. Petersburg, F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llection Services, Inc. (Houston, T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heck Services, Inc. (Houston, T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Techniques &amp; Programming, Inc. (Abilene, T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s of April 8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A03-25E8-45A7-9548-FC65F15D22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Institutions Enro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7400" y="1600200"/>
          <a:ext cx="4800600" cy="367020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ty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rol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as State-Chartered 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Savings 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Savings 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e Credit Un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Credit Un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as National 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-of-State State 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-of-State National 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68580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4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NS data as of April 11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55D-8510-4A55-B032-F2643370FCE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xas Department of Banking April 22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3:44:21Z</dcterms:created>
  <dc:creator> </dc:creator>
  <dc:description/>
  <dc:language>en-US</dc:language>
  <cp:lastModifiedBy>WBuitron</cp:lastModifiedBy>
  <dcterms:modified xsi:type="dcterms:W3CDTF">2008-04-11T15:13:33Z</dcterms:modified>
  <cp:revision>21</cp:revision>
  <dc:subject/>
  <dc:title>House Business and Industry Committee</dc:title>
</cp:coreProperties>
</file>